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B7D6-AD80-4DD1-8297-D555C3D4C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7538-6266-43A2-8FED-FEF7F7A34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E490-0FFD-4030-AE17-696D92880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EF13-A88A-4523-B75A-2838ED51A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4FF7A-0D03-4F9C-BF9D-22FF35A66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B14C3-FDF0-4B80-95AB-6671A04DA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940E7-76F9-4AEB-A25A-238593C30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1B93B-D0C1-4191-AC40-049EA4C83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D1EAF-FC77-4D8E-B6E8-80D2DF148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18CD3-6C4A-469B-BF15-84CE07085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B0F8A-2E59-4A35-8B59-B285E964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31E9-E5F4-4005-83D9-4F1F781DD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917B2-97C2-43A1-89B5-869988F1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F2247-715E-4FC4-A1A7-EDB65772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75057-FD7C-4AC8-92D4-34208EEBD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421F3-9D7C-4EBF-93A7-1EC096696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DF07A-B304-4786-9E52-2DB28E247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DC30-EF49-41FD-A52B-AEA0BD4AD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E2C6-F2AB-4133-B94A-4123724F3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CD0B-5DED-4559-AB63-7BA440489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7978-3D21-4082-96AD-2792A3F80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67BB-F118-4F6C-AE2B-EBDB2D5B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6017-3551-4F3C-B37F-A036473F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A1E4-D255-4895-9851-B4FC92F8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A77A9-6689-4B81-93AE-ED26A55324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cc66"/>
                </a:solidFill>
                <a:latin typeface="Bodoni MT Black"/>
              </a:rPr>
              <a:t>Click to edit the title text format</a:t>
            </a:r>
            <a:endParaRPr b="0" lang="en-US" sz="80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lides prepared by Cyndi Chie and Sarah Fry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04CB4-8452-410A-B74E-18BEC44CBE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42516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0320" algn="ctr">
              <a:spcBef>
                <a:spcPts val="799"/>
              </a:spcBef>
              <a:buClr>
                <a:srgbClr val="00ffff"/>
              </a:buClr>
              <a:buSzPct val="6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754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700640" algn="ctr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700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700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cc66"/>
                </a:solidFill>
                <a:latin typeface="Bodoni MT Black"/>
              </a:rPr>
              <a:t>A Gift of Fire</a:t>
            </a:r>
            <a:br>
              <a:rPr sz="8000"/>
            </a:br>
            <a:r>
              <a:rPr b="0" lang="en-US" sz="2400" spc="-1" strike="noStrike">
                <a:solidFill>
                  <a:srgbClr val="ffcc66"/>
                </a:solidFill>
                <a:latin typeface="Bodoni MT Black"/>
              </a:rPr>
              <a:t>Third edition</a:t>
            </a:r>
            <a:br>
              <a:rPr sz="2400"/>
            </a:br>
            <a:r>
              <a:rPr b="0" lang="en-US" sz="4800" spc="-1" strike="noStrike">
                <a:solidFill>
                  <a:srgbClr val="ffcc66"/>
                </a:solidFill>
                <a:latin typeface="Bodoni MT Black"/>
              </a:rPr>
              <a:t>Sara Baase</a:t>
            </a:r>
            <a:endParaRPr b="0" lang="en-US" sz="48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pter 5: Cri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Hacking (cont.)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aw: Catching and Punishing Hackers (cont.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net started with open access as a means of sharing information for re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titudes about security were slow to catch up with the ris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ewalls are used to monitor and filter out communication from untrusted sites or that fit a profile of suspicious ac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urity is often playing catch-up to hackers as new vulnerabilities are discovered and exploi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Hacking (cont.)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aw: Catching and Punishing Hackers (cont.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ponsibility for 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ers have a responsibility to develop with security as a go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sinesses have a responsibility to use security tools and monitor their systems to prevent attacks from succee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me users have a responsibility to ask questions and educate themselves on the tools to maintain security (personal firewalls, anti-virus and anti-spywar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Bodoni MT Black"/>
              </a:rPr>
              <a:t>Hacking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Bodoni MT Black"/>
              </a:rPr>
              <a:t>Discussion Questions</a:t>
            </a:r>
            <a:endParaRPr b="0" lang="en-US" sz="40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hacking that does no direct damage or theft a victimless crim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you think hiring former hackers to enhance security is a good idea or a bad idea?  Wh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Identity Theft and Credit Card Fraud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aling Identiti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ty Theft –various crimes in which a criminal or large group uses the identity of an unknowing, innocent per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credit/debit card numbers, personal information, and social security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-29 year-olds are the most common victims because they use the web most and are unaware of ris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-commerce has made it easier to steal card numbers and use without having the physical c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Identity Theft and Credit Card Fraud (cont.)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aling Identities (cont.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iques used to steal personal and financial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ishing - e-mail fishing for personal and financial information disguised as legitimate business e-m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arming - false Web sites that fish for personal and financial information by planting false URLs in Domain Name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ine resumes and job hunting sites may reveal SSNs, work history, birth dates and other information that can be used in identity thef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Identity Theft and Credit Card Fraud (cont.)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aling Identities (cont.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iques used to protect personal and financial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ation for new credit c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ailers do not print the full card number and expiration date on receip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ftware detects unusual spending activities and will prompt retailers to ask for identifying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vices, like PayPal, act as third party allowing a customer to make a purchase without revealing their credit card information to a stran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Identity Theft and Credit Card Fraud (cont.)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ponses to Identity Thef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hentication of e-mail and Web si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of encryption to securely store data, so it is useless if sto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henticating customers to prevent use of stolen numbers, may trade convenience for 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event information is stolen, a fraud alert can flag your credit report; some businesses will cover the cost of a credit report if your information has been sto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Identity Theft and Credit Card Fraud (cont.)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ometric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ological characteristics unique to an individ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external item (card, keys, etc.) to be stol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in areas where security needs to be high, such as identifying airport person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ometrics can be fooled, but more difficult to do so, especially as more sophisticated systems are develop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Bodoni MT Black"/>
              </a:rPr>
              <a:t>Identity Theft and Credit Card Fraud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Bodoni MT Black"/>
              </a:rPr>
              <a:t>Discussion Questions</a:t>
            </a:r>
            <a:endParaRPr b="0" lang="en-US" sz="40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steps can you take to protect yourself from identity theft and credit card frau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can you distinguish between an e-mail that is a phishing attempt and an e-mail from a legitimate busin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Scams and Forgery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c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TC reports that online auction sites are one of the top sources of fraud compla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sellers do not send items or send inferior pro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ill bidding is used to artificially raise pr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llers give themselves or friends glowing reviews to garner consumer tru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ction sites use various techniques to counter dishonest sell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What We Will Cover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c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ty Theft and Credit Card Frau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ams and Forg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ime Fighting Versus Privacy and Civil Libe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ws That Rule the We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Scams and Forgery (cont.)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fraud - repeated clicking on an ad to either increase a site’s revenue or to use up a competitor's advertising bud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ock fraud - most common method is to buy a stock low, send out e-mails urging others to buy, and then sell when the price goes up, usually only for a short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gital Forgery - new technologies (scanners and high quality printers) are used to create fake checks, passports, visas, birth certificates, etc., with little skill and inves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Crime Fighting Versus Privacy and Civil Liberties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arch and Seizure of Computer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res a warrant to search and seize a compu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rt rulings inconclusive about whether information found on computers, but not covered by a warrant, is considered in ‘plain view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omated searc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monitor constantly and less likely to miss suspicious ac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be programmed to only look for what is covered in a warr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Crime Fighting Versus Privacy and . . . (cont.)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ssue of Venu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ges are generally filed where the crime occ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s differ between states and coun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 charges are filed may have significant impact if community standards app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BI usually files in the state where the crime was discovered and the investigation beg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Crime Fighting Versus Privacy and . . . (cont.)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ybercrime Treat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ational agreement to foster international cooperation among law enforcement agencies of different countries in fighting copyright violations, pornography, fraud, hacking and other online frau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y sets common standards or ways to resolve international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Bodoni MT Black"/>
              </a:rPr>
              <a:t>Whose Laws Rule the Web</a:t>
            </a:r>
            <a:endParaRPr b="0" lang="en-US" sz="40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Digital Actions Cross Border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s vary from country to coun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porations that do business in multiple countries must comply with the laws of all the countries involv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one whose actions are legal in their own country may face prosecution in another country where their actions are illeg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Bodoni MT Black"/>
              </a:rPr>
              <a:t>Whose Laws Rule the Web (Cont.)</a:t>
            </a:r>
            <a:endParaRPr b="0" lang="en-US" sz="40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resting Foreign Visitor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Russian citizen was arrested for violating the DMCA when he visited the U.S. to present a paper at a conference; his software was not illegal in Rus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executive of a British online gambling site was arrested as he transferred planes in Dallas (online sports betting is not illegal in Brit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Bodoni MT Black"/>
              </a:rPr>
              <a:t>Whose Laws Rule the Web (Cont.)</a:t>
            </a:r>
            <a:endParaRPr b="0" lang="en-US" sz="40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bel, Speech and Commercial Law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 if something is illegal in both countries, the exact law and associated penalties may v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 a trial is held is important not just for differences in the law, but also the costs associated with travel between the countries; cases can take some time to come to trial and may require numerous tri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edom of speech suffers if businesses follow laws of the most restrictive coun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Bodoni MT Black"/>
              </a:rPr>
              <a:t>Whose Laws Rule the Web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Bodoni MT Black"/>
              </a:rPr>
              <a:t>Discussion Questions</a:t>
            </a:r>
            <a:endParaRPr b="0" lang="en-US" sz="40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suggestions do you have for resolving the issues created by differences in laws between different countri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o you think would work, and what do you think would no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Hacking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cking – currently defined as to gain illegal or unauthorized access to a file, computer, or net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erm has changed over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ase 1: early 1960s to 1970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was a positive te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"hacker" was a creative programmer who wrote elegant or clever c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"hack" was an especially clever piece of c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Hacking (cont.)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ase 2: 1970s to mid 1990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cking took on negative conno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eaking into computers for which the hacker does not have authorized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ill primarily individu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udes the spreading of computer worms and viruses and ‘phone phreaking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nies began using hackers to analyze and improve 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Hacking (cont.)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ase 3: beginning with the mid 1990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rowth of the Web changed hacking; viruses and worms could be spread rapid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itical hacking (Hacktivism) surfac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nial-of-service (DoS) attacks used to shut down Web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rge scale theft of personal and financial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Hacking (cont.)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cktivism, or Political Hacking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of hacking to promote a political ca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agreement about whether it is a form of civil disobedience and how (whether) it should be punish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use the appearance of hacktivism to hide other criminal activ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o you determine whether something is hacktivism or simple vandalis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Hacking (cont.)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aw: Catching and Punishing Hacker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86 Congress passed the Computer Fraud and Abuse Act (CFA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vers government computers, financial and medical systems, and activities that involve computers in more than one state, including computers connected to the 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USA Patriot Act expanded the definition of loss to include the cost of responding to an attack, assessing damage and restoring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Hacking (cont.)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aw: Catching and Punishing Hackers (cont.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variety of methods for catching hack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w enforcement agents read hacker newsletters and participate in chat rooms underco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can often track a handle by looking through newsgroup arch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urity professionals set up ‘honey pots’ which are Web sites that attract hackers, to record and stu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uter forensics is used to retrieve evidence from compu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Hacking (cont.)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aw: Catching and Punishing Hackers (cont.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nalties for young hack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y young hackers have matured and gone on to productive and responsible care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mptation to over or under pun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tencing depends on intent and damage d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young hackers receive probation, community service, and/or f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until 2000 did a young hacker receive time in juvenile deten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0:42:23Z</dcterms:created>
  <dc:creator> </dc:creator>
  <dc:description/>
  <dc:language>en-US</dc:language>
  <cp:lastModifiedBy>Sara</cp:lastModifiedBy>
  <dcterms:modified xsi:type="dcterms:W3CDTF">2007-11-25T02:55:13Z</dcterms:modified>
  <cp:revision>53</cp:revision>
  <dc:subject/>
  <dc:title>         Gift of Fire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721033</vt:lpwstr>
  </property>
</Properties>
</file>